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EE59-2E70-4556-9881-93C3E8EE2A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5B79-1263-4F18-A3E3-CFA85CA38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30F1AB-8452-4BC3-A186-6F9FF760C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C6B6C6-A38C-44BB-AA7B-D75D3D6E6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53C6DC-99D9-40E1-BEBD-F3113CA4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E2F6C46-7B18-43A2-8565-9F789ADC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EAA0D3-24B0-4EA1-8DE7-DFA18732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264532-8108-4375-A88F-B47967F5A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57C123-22FE-4AE2-8806-944164CE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5FB72-18F0-4603-A554-95BD3B624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8DD7A9-7357-4EF6-9399-B1BD0E142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1F4665-59E4-42B6-BC3E-CBB012A58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5B8D-D633-4FFE-AE0C-8EC296D414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81B93A-8715-4B55-9BA5-F6AC7EAD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DFDA902-D3B7-4F81-8B80-D55DEF9BD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A12FA09-D9C5-4DB6-9E6C-F0A60A5F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7DF0D88-AF4C-4BD5-B078-A1415B698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8820277-471C-418E-AEBF-0449115A0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D0A9BB4-C681-4F0D-BA13-F2005EF28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0ABFE17-C042-4B7F-AB3B-F44911AC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2DFA648-C67B-4143-BB52-9514F4A59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8FB06D3-DB89-493B-A979-541E5B17D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A8D216-3605-4318-9B16-7DD14103AE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06DB-2EEE-4955-8A48-67B46646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DEC570-FA3C-4B33-A6D5-AC5C2944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F11C0-5EC5-44D5-9431-00F17E401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6E80-3312-4856-8262-D6E185D85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05F98-25AA-4791-B98F-B96D531F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D68F-CF33-4F05-BAF4-999F26224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6123F-DB8E-4E7B-B7E6-7CAFDAECF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D98DD-DD1D-41BB-BFA7-E2BF29B44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87305-52F1-4B79-A6DA-DAE38B8A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C6D6-094D-41A9-B353-2827B715C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24F9E-8774-4B74-A5DC-0CB4FD32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2B0F5-858B-4406-8917-AC6F45B8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8472D-FE83-468F-BC2F-668F389EA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84873-010B-4BE3-8EA3-845E13508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71DC-B393-4594-908B-B06D99DA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8FE2F-A7B3-4AB8-97F5-66CE186D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42A4DC-D694-4AC5-B9E6-AC79FDD7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3E420-854A-4043-A3F1-F3DCBE8F0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CCF6F1-DB64-486D-BAD9-D2886BB0E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B0D7F6-22A1-400B-A098-77629DBB3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5A6F5-E40A-479D-ADE8-D0C1D06DE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EDD956-A75E-4896-B10B-847E73C47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FFA34-C51B-49AF-A1A6-AEA08B455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D60456-6070-48B6-B0C3-115C4303F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D5C27C-52EA-4EDB-8485-B91AB5916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D8E86-4D08-42EF-8808-8F0745798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3F7528-37AE-4743-9687-A0A91BB84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49548-F8B6-4968-B35B-4D9520E66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6C8790-AD3F-45FB-812B-82093BEE2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995AB9-8B81-4A70-A076-6F73216A7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97464D-3465-41CF-B781-ED3F5E36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2FDF-9FEF-4614-BF87-F31164E8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3D3438-350B-4839-8439-24961B2A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93D2F0-59E7-4D8C-BC9B-11C858596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352D2-4D70-440A-B4CB-3D0235AE0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B2B014-DF5E-4868-A38D-1C4FDD5B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896C1B-7CE7-431F-8D66-59559D2A8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D3563D-2E67-4369-9134-D4CDF00EE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236C3-5B73-4AFF-A430-384A50BEB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861937-B7B4-4E60-96FA-464322EEA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37B485-09D8-472A-B540-3917044FA8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DA554E-3286-4BA8-A03F-763969721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AB81-C92A-4E41-8B5A-32879744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67BBAA-0E7B-4E47-862E-D94CA3CF2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0D00AB-E2D1-4E61-AB1D-B55DCCA02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2C20-9C83-43FE-ACAD-603A44538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A5D3E-FAEE-4924-B1F3-FA061C354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FF1B7D-C9FD-494F-9667-752F813B8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8C1D5-D74B-4EE6-B840-AF2C4265F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B93743-32BC-4CAE-BC8D-F19687D21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6348B2-CA12-425A-AE37-FEDC3AE7D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4F2A47-D83B-4753-B4AC-A74EF278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719C2C-7EF0-4823-BD4F-2CC70B6C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CAAC-FB6C-4FA0-8D24-313A64CD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BC651B-85A5-4291-B539-3F8B61520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9E654E-7CAF-4170-8364-B2F052909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391BCF-27C9-43CE-83A9-4ECD220D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78C1F-49C3-482F-BE8D-2FDA952C0B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B65213-8210-4AC9-A790-56A09584A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CC00C-D7FC-4C34-8719-39E16C7C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80320-0184-48AF-B0CF-F937DCBF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C6D404-D6B4-48AF-AE0C-C41F16D73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27615-E91E-41D1-9E41-38FFBC554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43443-AC3B-40D3-B768-465E8FDEE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87D7-4AA2-4AD7-AB4B-5E455CE9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1AE712-451F-43BE-92E6-8A5299EC6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E1076C-8AB7-4617-B86B-B08DF6652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3B25A9-4449-44CC-B7B7-91B2EAA6C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6A54DE-301C-47F7-AE9A-3FA4BABED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20626-7924-4C03-A6CD-12BD4B931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CACD72-1318-49C1-A081-759C566BF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7EC682-E7B6-492C-B502-3EF45A31A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67C88D-E8C0-40AF-90D0-4BCCE033F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63CA44-B8BD-4C1A-866A-2AA6C49D9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A397AF-0BD7-49E4-955A-6085C47B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6BE8-D011-4881-9EC5-7B786DFFF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3D259-9BC7-412A-9AC1-1EE7EACE1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E7E8DC-D37E-4D26-90E8-7CE2A862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18A33E-3A3E-4601-B9F6-3C680B057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6280C-1D74-47E7-8852-65760782E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EEEA7-1DE1-42C7-8FDA-F5E375B0C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DE24D1-A781-48F2-83DF-04F5757CE2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6134F0E-F2D7-4EEC-AE53-2D4B3CFBB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47E930-8DB6-4FBD-84D0-1879796E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B19FC4-A7E0-49B4-A513-573CB49C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4DB9DB-178F-40A9-AA6B-AC041541D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BD3BD-58BF-4596-9504-7CEBD324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CF5874-8176-4A4B-93E2-4F7DFB63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6533B-A878-418F-9055-F5748CC5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43B087-FC9C-4FB2-A685-9AEB998B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061A906-F7C2-4AAC-A02C-F00532044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0D85A-B32A-47B1-B943-CCE1228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C89EB6-8BD0-42C9-909A-773B680EB2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3FDF44-2DCB-4C45-8B33-37046B43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944074-B1A0-4AD5-95ED-923E63CAF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649AA-DBDC-4A33-A1AA-7C5EBFB9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2A78949-F3F4-46A0-BAAA-9399FF8CE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081A-506D-4547-B126-B645D288698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9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580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584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85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586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93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DD488-7A0F-476B-9CA5-5693CC48094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C117F-8A16-4EB0-99C2-1A128434C15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5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EF85F-24FA-427A-AF29-F17EC54FC2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212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DC1CA-8BC2-41D3-BB3B-BB81DB4031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27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13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14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CF48E-5B31-45DB-A60D-98F7B9670FD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4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1" name="PlaceHolder 1"/>
          <p:cNvSpPr>
            <a:spLocks noGrp="1"/>
          </p:cNvSpPr>
          <p:nvPr>
            <p:ph type="dt" idx="16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ftr" idx="17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 type="sldNum" idx="18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24B88-54BB-42A3-8A07-C1CA289CBF8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1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422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0" name="PlaceHolder 1"/>
          <p:cNvSpPr>
            <a:spLocks noGrp="1"/>
          </p:cNvSpPr>
          <p:nvPr>
            <p:ph type="dt" idx="19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ftr" idx="20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sldNum" idx="21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5AFA-1647-4793-9855-E441DE988A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1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472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dt" idx="22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ftr" idx="23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1E21-83E6-4088-9EF3-E98E2BFCA3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9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23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525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532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92C5-0974-49EC-8601-669FCD5BC29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136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Формирование самооценки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1.Мнение окружающих люде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2.Собственный жизненный опы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Степень воздействия на формирование нашей самооценки имеет значимость для нас мнения того или иного человека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"/>
          <p:cNvSpPr txBox="1"/>
          <p:nvPr/>
        </p:nvSpPr>
        <p:spPr>
          <a:xfrm rot="297000">
            <a:off x="726840" y="1123560"/>
            <a:ext cx="7056360" cy="15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оцен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/>
          </p:nvPr>
        </p:nvSpPr>
        <p:spPr>
          <a:xfrm>
            <a:off x="685800" y="2142720"/>
            <a:ext cx="7696080" cy="334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здоровое отношение человека к самому 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Это чувство собственного достоинства и уверенности в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Фактор признания или непризнания человека окружающими людьми оказывает влияние на формирование у него правильного отношения к себе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"/>
          <p:cNvSpPr txBox="1"/>
          <p:nvPr/>
        </p:nvSpPr>
        <p:spPr>
          <a:xfrm rot="183000">
            <a:off x="826920" y="744120"/>
            <a:ext cx="7186680" cy="1297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амоува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С негативным подтекстом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никогда не сможешь ничего добиться в своей жизни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Ты полная копия своего отца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Comic Sans MS"/>
              </a:rPr>
              <a:t>Позитивное высказывание:</a:t>
            </a:r>
            <a:r>
              <a:rPr b="1" i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Вы напоминаете мне … Вы энергичны и решительны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«Я ценю ваше умение выполнять поручаемую работу. Вы очень эффективный работник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1619280" y="1197000"/>
            <a:ext cx="6265800" cy="503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269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Как говорят о на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Обладающего чувством самоуважения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Открытый взгляд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Голова поднята; походка прям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В разговоре выражает позитивное отношение к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Не корит себя; ощущает принятие со стороны окружающих люд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Чувствует себя способным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Берет на себя ответственность и заботится о себе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Имеет здоровые привычки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1042920" y="1052640"/>
            <a:ext cx="7201080" cy="7189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48511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ahoma"/>
              </a:rPr>
              <a:t>С низкой самооценкой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ячет глаза, старается отвести взгляд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 ходьбе сутулится, вжимает голову в плеч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ринижает собственное достоинство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Постоянно ощущает чувство вин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способен управлять ситуацие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Не заботится о себе, не несет ответственности за себя и свои действи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Имеет вредные привычк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755640" y="1052640"/>
            <a:ext cx="7416720" cy="647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98441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Характеристика человека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Многие используют еду как средство снятия напря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еудачные попытки сбросить вес ведут к  потери самоува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авильная самооценка и уважительное отношение к себе помогает человеку </a:t>
            </a:r>
            <a:r>
              <a:rPr b="0" i="1" lang="en-US" sz="2800" spc="-1" strike="noStrike">
                <a:solidFill>
                  <a:srgbClr val="ffffff"/>
                </a:solidFill>
                <a:latin typeface="Arial"/>
              </a:rPr>
              <a:t>сбросить вес, удержать его и полностью изменить свой стиль жиз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755640" y="1052640"/>
            <a:ext cx="7254720" cy="720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127898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Взиимосвязь ожирения и самооценки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Arial"/>
              </a:rPr>
              <a:t>Необходимо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Верить в возможность повышения самооценк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Знать пути повышения самооцен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1547640" y="836640"/>
            <a:ext cx="6409080" cy="107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Как повысить самооценку?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1.Сознательно формируйте чувство самоуважения и верьте в собственную значимость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2.Анализируйте свои чувства и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а)Постарайтесь осознать, что эмоции и чувства являются продуктом ваших мыслей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б)Определите мысли вызывающие негативные эмоци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Например: «Я – полный неудачник» или «эта задача мне не по силам»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Поменяйте негативные мысли на позитивные: «Я не считаю себя неудачником, моя зависимость от еды – временное явление. Я смогу похудеть»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в) Помните, что вы можете изменить себя, если измените свои мысли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/>
          </p:nvPr>
        </p:nvSpPr>
        <p:spPr>
          <a:xfrm>
            <a:off x="468360" y="549360"/>
            <a:ext cx="822960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omic Sans MS"/>
              </a:rPr>
              <a:t>Пять необходимых услови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.Научитесь прощать себя и других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4.Окружите себя людьми, которые понимают и поддерживают вас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5.Находите для себя возможность ежедневно заниматься любимым дело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а) чтение, занятие спортом, прогулка на свежем воздухе, прослушивание музыки, работа в саду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б) помните о том, что утомление часто является скрытой формой депрессии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8T10:32:42Z</dcterms:created>
  <dc:creator>Черевичная Вера Петровна</dc:creator>
  <dc:description/>
  <dc:language>en-US</dc:language>
  <cp:lastModifiedBy>Черевичная Вера Петровна</cp:lastModifiedBy>
  <dcterms:modified xsi:type="dcterms:W3CDTF">2007-02-08T10:59:59Z</dcterms:modified>
  <cp:revision>2</cp:revision>
  <dc:subject/>
  <dc:title>Слайд 1</dc:title>
</cp:coreProperties>
</file>